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3C5-BAF3-4E03-AEEB-6A04D1F4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6FA-5A2A-4BAF-8897-3ECD791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B8D-B9E2-4979-9D5C-9FBB8768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DF4-6667-45F1-ABF7-74B8DADF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470E-582C-4DC1-BDF6-B1AF6708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E62B-281A-4777-8673-32FEB947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B389-4641-44CE-83D5-2AE46FA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E495-415D-4695-BC9D-BF860411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8D4C-7EB5-4D20-97BE-DFE0057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CE95-A941-4D92-8268-0FC8EED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6F06-B48B-4E2D-8627-74EB50F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796-9A9C-4EBE-B42B-A081AD17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10AE-D725-4734-BB63-5C58B87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876E-CC9F-4F99-A602-A05547A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B948-7A79-4B1B-A4FD-71442544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94F6-F1AB-40B3-8773-B5FD73A5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F921-B600-42B1-8A8A-2FCB32DD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344-981E-490E-9D4D-9370815B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124-73CD-49D4-AAAD-139C5956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728-8FBD-4672-8804-564EB6CF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BD2-9B94-4E56-9E8C-25781160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DE4-DEC4-4B9A-B9EC-9D9FDC1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CC8-C6CD-4186-BB7D-C83D8A7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213-A79F-4DED-99CB-78F95AC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695E-4A27-490A-B8BB-F8ECF5D5D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E517-A6B0-4FE4-A480-A0FD1D0B8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960"/>
            <a:ext cx="625320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752480"/>
            <a:ext cx="7467480" cy="3429000"/>
          </a:xfrm>
          <a:prstGeom prst="rect">
            <a:avLst/>
          </a:prstGeom>
          <a:gradFill rotWithShape="0">
            <a:gsLst>
              <a:gs pos="0">
                <a:srgbClr val="d8c150"/>
              </a:gs>
              <a:gs pos="100000">
                <a:srgbClr val="e5d58a"/>
              </a:gs>
            </a:gsLst>
            <a:lin ang="5400000"/>
          </a:gradFill>
          <a:ln cap="sq"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74912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together is a beginning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ing together is progress; and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together is succes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52480" y="44953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34216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90920" y="1447920"/>
            <a:ext cx="4952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ank You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48520" y="3124080"/>
          <a:ext cx="25891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124080"/>
                    <a:ext cx="25891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ea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a team,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4342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depend on each other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4342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y or may not work in the same physical location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4342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 to achieve something togeth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of working with a team to clarify its task and how team members can work together to achieve i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trategy that can help groups to develop into a real team is “team building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ey actions in Team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338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 and maintaining the teams objectives and standar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the team as a whole in the achievement of objec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ing the unity of the tea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ng efficiently with the tea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lting the team – members before taking any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tages of Team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I: Forming  - Provide clear direction to establish the team’s purpose, setting goals, etc.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II: Storming – Provide strong, hands-on leadership to keep people talking and task-focused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III: Norming – Codes of behaviour becomes established and an identifiable group culture emerges. People begin to enjoy each other’s company and appreciate each other’s contribution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IV: Performing – Teams that reach this stage achieve results easily and enjoyably. People work together well and can improve systems, solve problems and provide excellent customer service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V: Adjourning – Temporary project team reaches this stage; celebrate their team’s achievements.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elpful Team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0720" y="838080"/>
            <a:ext cx="6324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 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ing the pea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a frien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enthusiastic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ing opinions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problems logical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ving tension with humou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ing approva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ing oth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685440"/>
            <a:ext cx="749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actors to successful performance of a team – S.C.O.R.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905120"/>
            <a:ext cx="749160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US" sz="3800" spc="-1" strike="noStrike">
                <a:solidFill>
                  <a:srgbClr val="003300"/>
                </a:solidFill>
                <a:latin typeface="Arial"/>
              </a:rPr>
              <a:t>trategy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0" lang="en-US" sz="3800" spc="-1" strike="noStrike">
                <a:solidFill>
                  <a:srgbClr val="003300"/>
                </a:solidFill>
                <a:latin typeface="Arial"/>
              </a:rPr>
              <a:t>lear Roles and Responsibility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0" lang="en-US" sz="3800" spc="-1" strike="noStrike">
                <a:solidFill>
                  <a:srgbClr val="003300"/>
                </a:solidFill>
                <a:latin typeface="Arial"/>
              </a:rPr>
              <a:t>pen Communication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R</a:t>
            </a:r>
            <a:r>
              <a:rPr b="0" lang="en-US" sz="3800" spc="-1" strike="noStrike">
                <a:solidFill>
                  <a:srgbClr val="003300"/>
                </a:solidFill>
                <a:latin typeface="Arial"/>
              </a:rPr>
              <a:t>apid Response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0" lang="en-US" sz="3800" spc="-1" strike="noStrike">
                <a:solidFill>
                  <a:srgbClr val="003300"/>
                </a:solidFill>
                <a:latin typeface="Arial"/>
              </a:rPr>
              <a:t>ffective Leadership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actors to successful performance of a team – S.C.O.R.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782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Strategy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hared purpos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early articulated values and ground rul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derstanding of risks and opportunities facing the tea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ear categorization of the overall responsibilities of the tea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Clear Roles and Responsibilities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spcAft>
                <a:spcPts val="751"/>
              </a:spcAft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ear definition of roles and responsibiliti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spcAft>
                <a:spcPts val="751"/>
              </a:spcAft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ibility shared by all memb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spcAft>
                <a:spcPts val="751"/>
              </a:spcAft>
              <a:buClr>
                <a:srgbClr val="66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objectives to measure individual resul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actors to successful performance of a team – S.C.O.R.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934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Open communication: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4342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 for individual differences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4342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communication environment among team members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Rapid response: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onse to the team’s problems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management to change in the internal and external environment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Effective Leadership: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leader who is able to help members achieve the objective and build the team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leader who can draw out and free up the skills of all team members, develop individuals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u</cp:lastModifiedBy>
  <dcterms:modified xsi:type="dcterms:W3CDTF">2010-01-06T10:59:21Z</dcterms:modified>
  <cp:revision>0</cp:revision>
  <dc:subject/>
  <dc:title>Team building</dc:title>
</cp:coreProperties>
</file>